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3700-EAC1-4C4D-9A67-58BDBD5A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2B7-0E88-44AE-AB32-BF452490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7C5-0726-4246-9232-C8BCBFDE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AD4-9864-4AF9-89B6-0A15C9D8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E8A0-CC9E-402B-A292-1ED9DE6E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64CB-A199-4B20-98BE-0824BDB3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B678-A04C-46DB-A93F-578DB591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C78-8F77-403B-9276-29215995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76C-4E50-48D1-974F-36D98C05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4F1-A680-4158-87ED-723B4B84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6AA-A619-48C8-A74F-711DD6C8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267-144C-4B3D-9B53-133F4F8E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B4BEC-06A7-47ED-8F80-2F79AF8DC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360360" y="493560"/>
            <a:ext cx="6064200" cy="1640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431640" y="5549760"/>
            <a:ext cx="2138400" cy="21384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12"/>
          <p:cNvGrpSpPr/>
          <p:nvPr/>
        </p:nvGrpSpPr>
        <p:grpSpPr>
          <a:xfrm>
            <a:off x="525600" y="2685960"/>
            <a:ext cx="5437080" cy="5370840"/>
            <a:chOff x="525600" y="2685960"/>
            <a:chExt cx="5437080" cy="537084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553680" y="2685960"/>
              <a:ext cx="1714320" cy="177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Box 5"/>
            <p:cNvSpPr/>
            <p:nvPr/>
          </p:nvSpPr>
          <p:spPr>
            <a:xfrm>
              <a:off x="1009440" y="4461120"/>
              <a:ext cx="225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app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7"/>
            <p:cNvSpPr/>
            <p:nvPr/>
          </p:nvSpPr>
          <p:spPr>
            <a:xfrm>
              <a:off x="525600" y="7688520"/>
              <a:ext cx="174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" name="Picture 8" descr=""/>
            <p:cNvPicPr/>
            <p:nvPr/>
          </p:nvPicPr>
          <p:blipFill>
            <a:blip r:embed="rId4"/>
            <a:stretch/>
          </p:blipFill>
          <p:spPr>
            <a:xfrm>
              <a:off x="4231080" y="2685960"/>
              <a:ext cx="1731600" cy="17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Box 9"/>
            <p:cNvSpPr/>
            <p:nvPr/>
          </p:nvSpPr>
          <p:spPr>
            <a:xfrm>
              <a:off x="4447440" y="4505760"/>
              <a:ext cx="13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ngr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" name="Picture 10" descr=""/>
            <p:cNvPicPr/>
            <p:nvPr/>
          </p:nvPicPr>
          <p:blipFill>
            <a:blip r:embed="rId5"/>
            <a:stretch/>
          </p:blipFill>
          <p:spPr>
            <a:xfrm>
              <a:off x="4277160" y="5677200"/>
              <a:ext cx="1656720" cy="171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11"/>
            <p:cNvSpPr/>
            <p:nvPr/>
          </p:nvSpPr>
          <p:spPr>
            <a:xfrm>
              <a:off x="4447440" y="7558200"/>
              <a:ext cx="15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al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9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0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63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81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2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95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13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24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27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3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45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56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59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77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88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91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8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09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9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20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23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0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41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44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4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355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2236680" y="96840"/>
            <a:ext cx="2103480" cy="1128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5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99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42720" y="1687680"/>
            <a:ext cx="6172200" cy="74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all, today I fe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ick a box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……………………………………………………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here if there is anything else you want to say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3195720" y="119844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4371840" y="1309680"/>
            <a:ext cx="1051200" cy="103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4"/>
          <a:stretch/>
        </p:blipFill>
        <p:spPr>
          <a:xfrm>
            <a:off x="2335320" y="1339920"/>
            <a:ext cx="1000080" cy="1001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5423040" y="129060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67336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3614760" y="2341440"/>
            <a:ext cx="36828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751280" y="2341440"/>
            <a:ext cx="34776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5807160" y="2341440"/>
            <a:ext cx="347400" cy="41940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28880"/>
                <a:gridCol w="582912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happ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sad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0" y="17938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3"/>
          <a:stretch/>
        </p:blipFill>
        <p:spPr>
          <a:xfrm>
            <a:off x="0" y="2795760"/>
            <a:ext cx="1001880" cy="1001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4"/>
          <a:stretch/>
        </p:blipFill>
        <p:spPr>
          <a:xfrm>
            <a:off x="0" y="383868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5"/>
          <a:stretch/>
        </p:blipFill>
        <p:spPr>
          <a:xfrm>
            <a:off x="0" y="5688000"/>
            <a:ext cx="100188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6"/>
          <a:stretch/>
        </p:blipFill>
        <p:spPr>
          <a:xfrm>
            <a:off x="0" y="6688080"/>
            <a:ext cx="1001880" cy="100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7"/>
          <a:stretch/>
        </p:blipFill>
        <p:spPr>
          <a:xfrm>
            <a:off x="0" y="7689960"/>
            <a:ext cx="100188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335320" y="96840"/>
            <a:ext cx="1888920" cy="11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1765440"/>
          <a:ext cx="6858000" cy="3073320"/>
        </p:xfrm>
        <a:graphic>
          <a:graphicData uri="http://schemas.openxmlformats.org/drawingml/2006/table">
            <a:tbl>
              <a:tblPr/>
              <a:tblGrid>
                <a:gridCol w="1069920"/>
                <a:gridCol w="57880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8" name="TextBox 4"/>
          <p:cNvSpPr/>
          <p:nvPr/>
        </p:nvSpPr>
        <p:spPr>
          <a:xfrm>
            <a:off x="1243080" y="12574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angry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1149480" y="5087880"/>
            <a:ext cx="42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ngs that made me feel calm to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5688000"/>
          <a:ext cx="6858000" cy="3073320"/>
        </p:xfrm>
        <a:graphic>
          <a:graphicData uri="http://schemas.openxmlformats.org/drawingml/2006/table">
            <a:tbl>
              <a:tblPr/>
              <a:tblGrid>
                <a:gridCol w="1003320"/>
                <a:gridCol w="5854680"/>
              </a:tblGrid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3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131" name="Picture 16" descr=""/>
          <p:cNvPicPr/>
          <p:nvPr/>
        </p:nvPicPr>
        <p:blipFill>
          <a:blip r:embed="rId2"/>
          <a:stretch/>
        </p:blipFill>
        <p:spPr>
          <a:xfrm>
            <a:off x="0" y="1765440"/>
            <a:ext cx="1050840" cy="1030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"/>
          <p:cNvPicPr/>
          <p:nvPr/>
        </p:nvPicPr>
        <p:blipFill>
          <a:blip r:embed="rId3"/>
          <a:stretch/>
        </p:blipFill>
        <p:spPr>
          <a:xfrm>
            <a:off x="0" y="279576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"/>
          <p:cNvPicPr/>
          <p:nvPr/>
        </p:nvPicPr>
        <p:blipFill>
          <a:blip r:embed="rId4"/>
          <a:stretch/>
        </p:blipFill>
        <p:spPr>
          <a:xfrm>
            <a:off x="0" y="3827520"/>
            <a:ext cx="1050840" cy="1031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"/>
          <p:cNvPicPr/>
          <p:nvPr/>
        </p:nvPicPr>
        <p:blipFill>
          <a:blip r:embed="rId5"/>
          <a:stretch/>
        </p:blipFill>
        <p:spPr>
          <a:xfrm>
            <a:off x="0" y="5688000"/>
            <a:ext cx="1050840" cy="1050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"/>
          <p:cNvPicPr/>
          <p:nvPr/>
        </p:nvPicPr>
        <p:blipFill>
          <a:blip r:embed="rId6"/>
          <a:stretch/>
        </p:blipFill>
        <p:spPr>
          <a:xfrm>
            <a:off x="0" y="6738840"/>
            <a:ext cx="1050840" cy="1051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1" descr=""/>
          <p:cNvPicPr/>
          <p:nvPr/>
        </p:nvPicPr>
        <p:blipFill>
          <a:blip r:embed="rId7"/>
          <a:stretch/>
        </p:blipFill>
        <p:spPr>
          <a:xfrm>
            <a:off x="0" y="7790040"/>
            <a:ext cx="10508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28:24Z</dcterms:created>
  <dc:creator>Daniel Finley</dc:creator>
  <dc:description/>
  <dc:language>en-US</dc:language>
  <cp:lastModifiedBy>Annie!</cp:lastModifiedBy>
  <cp:lastPrinted>2011-05-31T09:24:51Z</cp:lastPrinted>
  <dcterms:modified xsi:type="dcterms:W3CDTF">2012-12-28T20:30:04Z</dcterms:modified>
  <cp:revision>5</cp:revision>
  <dc:subject/>
  <dc:title>PowerPoint Presentation</dc:title>
</cp:coreProperties>
</file>